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642-152B-4D44-A836-A2712F3DA072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A1D-8F67-4EBD-A645-9A71EE99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nterpretation is to be preferred over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the text itself for the complex relationship between explaining and understa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80A6-D406-4529-8077-182337FB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neutics is not satisfied with translating the language of the other; it wants to speak with the other in the language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EA9F-F429-405A-904B-29D5A6AA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80E-844F-448D-A0A2-58CEB517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F3F-D154-4EEE-A94E-04B743E6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escape our current viewpoint and see a piece of literature as its author intended? We can't: our views are always bound up with our present concerns, just as those concerns are themselves coloured by past tra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rehension of any written text requires hermeneu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ilosophical, theological, or literary problem can only be genuinely understood comprehending its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D2A-8540-4748-B586-F0383BCF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neutics does not re-construct the past; it seeks to understand the particular way a problem engages th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CEB-63E4-48D9-B736-412F75D6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Biblical hermeneu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DE24-5E3B-4F32-894B-F69CEEE3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E1E-822B-40B5-8A2C-0BD016A5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C30-6509-4EB7-A241-09B5ED79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we absorb a work only when we enlarge the horizon of our understanding, The accepted canons of literature that no longer shock and challenge may not be relev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2650-5277-4AA0-94B5-C799F1062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E17-C6E4-480E-9562-5EFBB98C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1AF-2A25-4CA1-B022-25A22174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9C8A-442D-4029-AD15-F4EB9644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8682-2E12-4A77-89C4-6FF1448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D1682-0A4A-4B3F-A6BB-4A8965B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CE52E-D072-4B95-8215-8E06AD1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88F16-5153-4995-B306-D4AF7F6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3F2F6-E5E4-4683-B786-5E1DC34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70F03-CB6E-49D0-80A8-65806EDF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C851-B758-4D3F-852F-BEB51EB1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57894-2883-49A4-A717-A35E017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B54-041A-4CFD-A2CB-5AC7E1A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A7F-5B5D-4F6D-A1DC-5934DAB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E306-C89A-467E-862D-526590CD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8E63-7096-44D6-9FB1-8DF5023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B6C-D474-4D7C-9362-2E925EE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17EE-41CA-40F0-8EF2-A4155776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ED4E-A8E3-485C-9408-03D7C9C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3DD6-04B2-4426-94C5-26E443B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4773-B2AA-4785-8E5E-FDE211C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D7A-5937-4784-BFBB-993CA65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939D-43B2-46F8-BDC9-36DFB50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6125-D922-40BD-AC81-C7F8F50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E7A-3FC6-4CB3-88A5-87D0D04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0CF-C503-4278-B58C-FD5A1AED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327-FA39-4247-AB1F-D1AD2A7E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7FB5-A580-4EF7-8905-180638FA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AE6D-71E2-4B38-A22B-8A3ABCBC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5071-FBAB-4D9A-A0A1-E183B6C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1931-6C84-4DF0-BDC8-08E61107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7E958-37A4-43CE-B6C1-2597948B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ADA-C3E0-47D7-92AA-2079401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8645-2DF1-4DB2-BCF6-A62AC3B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7A17-8512-4D00-B45C-E9FC7AA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030F-AF42-448A-8B84-F7681E3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C9AD-0BE4-4961-9BEA-9510A1F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A4F6-FA52-41F7-BE6F-838C522B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5486-9DC2-4B7B-BB4E-5A827FF0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9A0D-106B-4C3A-9AB6-C2FBCD17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DDFA-5E5B-4A6F-9914-4FF1319E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242A-2AE1-4B06-B57A-2BD808E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E288-3D10-4F69-A445-DC36C40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A50-FE72-4F5C-868E-C63EA5E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B69F-79A2-4851-A058-EC7265C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C328-FDFE-48A8-85AB-D621B44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A934B-4B44-4E84-B15E-32442BC1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FFF5-CC2B-4BE6-9C59-77EEFB7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AD9F-23F9-4A64-8379-68B3E4B2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4E64-EAC1-4237-AA25-4444EFC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91A2-3938-4396-8A4E-38FD874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1331-1C27-4DFD-9AAB-6537A20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4031-EBAC-4DD7-949F-0390A693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26BC-F4F6-4BCD-9E3C-C254ABC8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920-BBF3-4A91-8A68-E9B260C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6527-3B83-404F-9C59-6F47B731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A41F6-34A9-4834-BFEF-CF06207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41F8-731A-4165-A8E3-00456362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AA12-17C5-41A5-B5AB-B0F995CD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B679-0CCB-49AE-BD68-96F87C6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451E7-BF21-49B8-A999-854B50B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4912-ABD7-4807-85BE-F463DB6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C3C8-A894-411F-BF9B-546D5F5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0F34B-2E14-4AA3-B651-199BDBE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1005-77EC-4A07-823D-B3693DDA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D80-4364-43E3-B06F-58820C1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13BB-AB2B-4C78-A8C7-7F452983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D4EA9-9BA8-400B-B8A5-993DDB8A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2F1B-C12F-495A-BD06-10F462F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3E33-53EA-411F-B254-9D5D923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916F-D864-4663-AE10-E747055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FFAB-8676-4FF8-9A25-C8587B1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2322-AB65-4DEF-8EA8-7B4E7027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FF49-E8A3-4A19-AEDA-782C484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5714-65DD-4C51-B156-98B4EC9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C39E-2D3D-4E7A-9779-2A4B0B0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5E4-FE44-441B-B8EE-A84BB137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5DE2-53AE-4715-83E4-A310C69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880F-1082-4714-AD33-0ED1CA04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F156-EE04-4506-A314-0A3C9C06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3D86E-7474-4FE9-90B1-12A77A4D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748B-AAAF-4ACA-8CC4-AB04395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D385-5281-4B1A-AC11-BFF4A45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568F-49EA-4509-8E35-0FE37B31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D0BA-020A-44CE-90EE-4C4A8A1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1415-DCEF-449E-8AD8-1DBA368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1F32-C484-4B24-A6C5-6CB13F3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53E-47BD-4AF2-AF49-1A50A4D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CCC9-D8B5-4616-A1CC-2132E99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D4DE5-06A7-4F18-8A56-D4028CD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2706-0F79-40FB-8287-EB062ED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1E96-6F71-488B-9FC8-FAF9CAA5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5E1F-EB83-4E4D-AF2B-534D7CC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B0A7-6F62-4C28-8AEA-BFF20BA4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C6A5-1804-46CA-8D4E-1F0E8E0D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A575-BF9D-48D5-A956-DC6676C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89DD9-CF88-48E5-AD24-D5F39EA1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3379-BCBF-4E91-BF6B-40A626F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AE1-C76E-42E1-AEE5-424369F3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26B1-95EC-4A09-ACF8-CD5B375F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CEBD-ACB6-4B20-8558-49A5FC13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929D-2885-470E-B37C-6F6D3F5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DCF1E-5BF3-47AD-82FF-8C22B3AE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BE30-EBE9-4945-AE78-2D70960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BD6E-4144-46FE-B4D9-DE714CDF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F1E5-4856-4B4D-B297-212079E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392D7-3C82-4CC6-B18B-798AAD3E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01C0-226F-4B44-92FD-9A94FCB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7E8AD-6A28-4E9D-902B-A139E338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3635-1BF8-43A6-B483-D1BC09506B6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3E5-5A81-433B-9F57-8F2941FBEACD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EB7E-2150-439A-AF10-91EF0CAEC58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4A0-E649-4AA4-93C1-F0833A48BD4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875-DB0B-46F5-90C8-330A001463E8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B05-7255-4367-AFFC-DBF36A8908AA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571-8301-469C-B9A9-37470E8FCEBA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A116-3676-44AB-A151-10FBB0AC9A6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5138-A465-40D5-99C3-745689FCA6B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1176480" y="1384200"/>
            <a:ext cx="6791040" cy="17431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fffff"/>
                </a:solidFill>
                <a:latin typeface="Book Antiqua"/>
              </a:rPr>
              <a:t>Rose Yali Rickie Hernandez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fffff"/>
                </a:solidFill>
                <a:latin typeface="Book Antiqua"/>
              </a:rPr>
              <a:t>ENGL 126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do we arrive at a proper interpretation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Distinguish four levels in a text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word sound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meaning unit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erspectives controlling states of affair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represented objectivitie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Oppos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radical relativist notion that meaning cannot be trans-lingual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rationalist tendency to downplay the uniqueness of language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www.textetc.com/theory/hermeneutics.html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www.poetrymagic.co.uk/literary-theory/hermeneutics.html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groups.chass.utoronto.ca/iih/AboutHermeneutics.htm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en.wikipedia.org/wiki/Hermeneutic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philosophy.uchicago.edu/faculty/files/forster/HERM.pdf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5400" spc="-1" strike="noStrike">
                <a:solidFill>
                  <a:srgbClr val="895d1d"/>
                </a:solidFill>
                <a:latin typeface="Book Antiqua"/>
              </a:rPr>
              <a:t>Reference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705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egan as the science of interpreting ancient documen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study of interpretation theor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an be either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art of interpretation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theory and practice of interpretation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t began as a legal and theological methodology governing the application of civil law, canon law, and the interpretation of Scriptur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practice of historical retrieval, the re-construction of the historical context of scientific and literary works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study of the interpretation of written tex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Especially texts in the areas of literature, religion and law.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raditional 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2"/>
          <a:stretch/>
        </p:blipFill>
        <p:spPr>
          <a:xfrm>
            <a:off x="2590920" y="3730680"/>
            <a:ext cx="3809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262626"/>
                </a:solidFill>
                <a:latin typeface="Book Antiqua"/>
              </a:rPr>
              <a:t>Everything in the interpretation proces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262626"/>
                </a:solidFill>
                <a:latin typeface="Book Antiqua"/>
              </a:rPr>
              <a:t>Written text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262626"/>
                </a:solidFill>
                <a:latin typeface="Book Antiqua"/>
              </a:rPr>
              <a:t>Verbal 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and nonverbal forms of communication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rior aspects that affect communication 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presupposition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preunderstanding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the meaning and philosophy of language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semiotic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temporary 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analysis of texts for coherent explanatio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 consistency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eaning emerges in interaction between text and readers, often in societies very different from the writer's expectations, and so largely out of his control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4:58:05Z</dcterms:created>
  <dc:creator>ITA HERNANDEZ</dc:creator>
  <dc:description/>
  <dc:language>en-US</dc:language>
  <cp:lastModifiedBy>ITA HERNANDEZ</cp:lastModifiedBy>
  <cp:lastPrinted>2011-02-16T14:02:12Z</cp:lastPrinted>
  <dcterms:modified xsi:type="dcterms:W3CDTF">2011-03-29T01:59:23Z</dcterms:modified>
  <cp:revision>11</cp:revision>
  <dc:subject/>
  <dc:title>Hermeneutics</dc:title>
</cp:coreProperties>
</file>